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C629-B199-47BF-993C-9420EE65A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E19D-0719-4269-86FA-EF426B672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F152-D7C3-4FC0-B8B3-5160CA601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1129-CFD9-4267-AC40-5CDBC76BB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E319-5F16-4B19-8A02-243DAA8D0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BC40-8C5A-4927-A1AF-34757DEA1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27E4-13BA-467B-B99B-3EE935D73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2E04-1F20-4CC7-893E-6080D359F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4A2F-4E65-40AF-9F68-556442739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3C11-08A4-4217-9A57-BCFBACD9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F11B-1762-4CAF-8B38-6E71F5FA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66CE-E1DA-49A7-A80B-C09304B7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455BE-0617-4071-B273-A18D86FA2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Imperialism and Nationalis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In the 19</a:t>
            </a:r>
            <a:r>
              <a:rPr b="1" lang="en-US" sz="3200" spc="-1" strike="noStrike" baseline="30000">
                <a:solidFill>
                  <a:srgbClr val="000000"/>
                </a:solidFill>
                <a:latin typeface="Georgia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 Centu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809720" y="1523880"/>
            <a:ext cx="520056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British Empi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86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a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otland (1707) and Ireland (1800) united to Engl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rth America (1600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ia under East India Company (185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frica (1800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ia (1800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orers and scient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ames Cook (1728-177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MS Beagle (183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vid Livingstone (1813-187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371600"/>
            <a:ext cx="845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116760" y="1676520"/>
            <a:ext cx="25430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British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05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een Victo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totype of a perfect m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out w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rong wil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Better Half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d during the empire’s p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371600"/>
            <a:ext cx="845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715000" y="1600200"/>
            <a:ext cx="3135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8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manoff dynas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ccessor to Roman Emp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nal confli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expa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eat in the Crimean War opened eyes to progress of W. Eu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olution of 19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1371600"/>
            <a:ext cx="845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rcRect l="0" t="0" r="1885" b="3408"/>
          <a:stretch/>
        </p:blipFill>
        <p:spPr>
          <a:xfrm>
            <a:off x="5334120" y="1676520"/>
            <a:ext cx="35812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F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248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uis XVIII (brother of Louis XV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ed in 18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arles X (brother of Louis XV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ppled in revolution of 18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uis Philippe, duke of Orle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ed monarch (compromi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ppled by revolution of 18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uis Napoleon Bonapa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phew of Napoleon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ected president in 1848 –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Repub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up of 1851 declared himself Emperor Napoleon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ximilian and Carlotta in Mex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verthrown after defeat in Franco-Prussian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Republic proclaimed (187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ak governments to WW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1371600"/>
            <a:ext cx="845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477120" y="1676520"/>
            <a:ext cx="2438280" cy="16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Sp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equences of S. American rev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xico gained in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en Maria Christina allied with liber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abella installed as constitutional mon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1371600"/>
            <a:ext cx="845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743200" y="4145040"/>
            <a:ext cx="403848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Belg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olted 18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drew from Dutch u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titutional mon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sion between Waloons and Flem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onized Belgian Con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1371600"/>
            <a:ext cx="845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858000" y="1752480"/>
            <a:ext cx="200808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Germa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64767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mall princip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gress of Vienna combined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ding union establ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olutions of 1848 established constitutional monarc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to von Bismar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ancellor to Wilhelm of Prus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ited German princip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feated the French in 187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nized east Africa and Sam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371600"/>
            <a:ext cx="845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553080" y="1600200"/>
            <a:ext cx="23972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Ita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6096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chwork of small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olution of 1848 gave some areas limited monarch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 of 1859 started by Austrians to reassert their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opped by the Fre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ingdom of Italy declared (northern on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iuseppe Garibal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d shirt ar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me conquer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tican City given to the chur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1371600"/>
            <a:ext cx="845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286680" y="1676520"/>
            <a:ext cx="255240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9900"/>
                </a:solidFill>
                <a:latin typeface="Georgia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1500" autoRev="1" fill="hold"/>
                                        <p:tgtEl>
                                          <p:spTgt spid="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36600" y="223920"/>
            <a:ext cx="8470800" cy="64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Imperi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38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ientific expe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otanical investig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cono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w materials from colo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 of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eak monopolies of other European countries on raw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donesian rub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rmany developed synthetic d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371600"/>
            <a:ext cx="845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22667" t="26033" r="21610" b="18074"/>
          <a:stretch/>
        </p:blipFill>
        <p:spPr>
          <a:xfrm>
            <a:off x="6111720" y="1752480"/>
            <a:ext cx="2803680" cy="27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ower of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cal system in the coloni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festyle changes in the colon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al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Sla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Ide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Econom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Poli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Explor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Reli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51000" y="225360"/>
            <a:ext cx="8442000" cy="64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ower of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a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tish Empire versus Brazil (1850-185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age of Brazilian 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tish Empire versus Zanzibar (187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atened destruction of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Did Britain have the right to enforce their opinion of moral valu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What about American involvement in Iraq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"Any community with only one dominant power is always a dangerous one.  That's why I favor a multi-polar world, in which Europe obviously has its place.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acques Chirac, President of France,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ime Magazi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Feb. 24,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2286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Read and tell me what you think he is talking ab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80784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"Too long have too many Americans, and the people of the free world generally, stood by as silent accessories to the crimes of assault against freedom - assault against basic economic and spiritual principles that have made nations strong."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zra Taft Benson, "Watchman, Warn the Wicked",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Ensig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July 1973, p. 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43000" y="152280"/>
            <a:ext cx="7315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Read and tell me what you think he is talking ab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"Tolerance is not conformity to the world's view and practices. 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We must not surrender our beliefs to get along with peopl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however beloved or influential they may be.  Too high a price may be paid for social standing or even for harmony.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zra Taft Benson, "Watchman, Warn the Wicked",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Ensig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July 1973, p. 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22860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Read and tell me what you think he is talking ab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02:48:03Z</dcterms:created>
  <dc:creator>Emily Dougall</dc:creator>
  <dc:description/>
  <dc:language>en-US</dc:language>
  <cp:lastModifiedBy>jobert</cp:lastModifiedBy>
  <dcterms:modified xsi:type="dcterms:W3CDTF">2013-04-17T16:14:45Z</dcterms:modified>
  <cp:revision>19</cp:revision>
  <dc:subject/>
  <dc:title>America in the 19th Century</dc:title>
</cp:coreProperties>
</file>